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C7F-AC30-4E5F-998A-5CB0E9FE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E34-2C92-4D60-A87F-13877A0A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C4A84-841C-4906-8BD6-2BF3FF1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E94F9-B5B2-4E71-9B28-05F0265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5D693-84CC-4580-AB46-82FC2DC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DBE2C-6F8C-4665-BC9B-C4CA74E7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BED50-7CCD-4AE3-A2C8-516F814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4EDC8-1328-4A45-BE69-1BF01D08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F015D-FA94-490D-9580-0DEBBF40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3B9F0-CEFA-425F-9BC8-D2664078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FED7D-2EAB-4069-A982-31A114AE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BC97A-B8B9-43DB-B69E-8BBC628A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496-2799-43D9-B112-28ED6B21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F5032-7FB8-447B-8AF0-4661A2C4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713A1-8A4B-4AFD-8016-FEE2A82D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CAA97-3D89-4988-94CE-A6F13900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59F15-83F6-43E5-88AB-D62320CB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30B9B-8C05-4265-A254-AAC39A88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C62AD-BB51-4109-8666-4C8B1BB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54B12-9FD3-4D38-B2DD-0D79DA2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97C38-42EA-40EB-AF24-C3B5FEE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24819-FCDF-4B6B-A9E7-4719413C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5D086-E8A0-41D6-9D75-1B6EC4A6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C14-A083-4E7F-9BAD-47DA0BA1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38F16-5D1E-4A36-8248-431943F2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2A492-20C0-4B36-9F51-FD2CF5F7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ECAEE-81AE-4308-8C11-3909C91E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889B5-F0FD-4908-8E4D-A20525B8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1F8FE-15A1-4BB4-A17F-1E2D8CBF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FCE5-39BE-4F0D-A104-829D8D3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93A5B-E86B-43E6-AD07-A7B1F2E1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C4CE8-05DD-4A71-A020-4C76947E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37CC-38C3-4ECE-8A2E-DD331127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C1CE3-5073-457D-A1B2-9D6EC78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7C1D-777E-458D-9A6A-D0ABF1F1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2B55-1EF2-4A82-B135-98163C2C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2C2C4-AD0F-4937-B504-4F611CAD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AF57F-6068-4797-9158-FAFB01FF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B9737-351A-4D62-B825-5E158F46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75C10-8632-402E-86AC-5E480926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28048-B33C-415A-9E0A-1DD2B9FC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A4D98-5172-4437-8BA3-2857D4D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41169-4CC1-49BE-9E8D-084874A2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D62E3-B339-4E1B-9563-033EE8E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92038-E86B-4F92-88FC-03B848D0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E773-98A3-48F6-8D26-2065C3E5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3BEB3-B457-4A8A-9B39-E8A32E23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F037B-4D24-45B8-8E91-279E741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78830-3E19-490E-A086-CFD83DEE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658C8-1B51-4D8E-9CDB-63594410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9CABE-9DCE-4E30-A35F-904AB0DF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7D4D4-6AE9-4B38-9200-37F52ACC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D09DB-4E1E-451B-9C6E-20138F5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49105-FFA6-4EAF-8DEC-7B030691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8F583-E022-42D5-A5AE-B9957E69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C70FC-2D29-4625-9A22-08677B0A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3C68-B123-4E28-9CB5-11BAC9EC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C2952-4172-401B-ACA6-EDA93C9F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23CB2-55FA-4666-BD0E-D0D2767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64B2E-997A-4E66-A7C6-B2C76BF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F09D5-BD00-4360-8893-21A291D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DFA1E-FA9C-4E3D-8EDB-0FD1A218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666F6-3FD4-4F48-AC81-A2C1D014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65E2B-79B5-49AD-A63C-3D88B8FB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19B8F-DDD0-45C3-87C7-0777660D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ED100-6019-46F9-B18C-CAACBB4A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DADEC-DFCA-4118-8734-2D2731C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DCE-6539-4D67-863C-AF2EFBD8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777E6-8F18-41F3-96F0-4626724F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10AB1-54D6-41AB-8F67-6A5139B6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5D6E1-B011-464E-B956-B4E0955C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2BEF4-C218-4616-9833-CE5B1E9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B3B63-30BE-497B-A465-882545E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BDF1F-732E-429A-8E25-287FEB2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23E7E-F0FC-4122-83AF-E3BD6011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2B330-4212-4FC6-B76A-163E9F9C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4EFC6-05AA-4BBE-9DFB-9D996B22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DCCDA-4763-4B64-8736-48E98226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3AE1-E94E-4301-8C42-87D61FBF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0ED81-D835-4EBB-8159-B66518C0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2B0FA-8588-429D-9FFD-A6D382C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C4F30-D726-4C57-9AE7-8D9BCDC8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E12D8-1C2C-4FD0-B33B-3B1D370B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547FE-1A5B-4A46-A3AA-F6B305CD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E7A2D-49C3-42F1-BCA8-D7C23BE0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22A82-AD28-4F84-A801-5F308C3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0C043-D383-42F8-A150-C738570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0543E-FB58-46B6-8B5A-2B9A41E5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E6ECF-A7DD-4973-BC8F-F1DBBB21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5735-67A8-4A37-9B24-20AE297D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484F5-10A6-40B7-B75F-2D503D8E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D19FE-ADDA-4894-9E8D-9E75812F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033EE-5619-4C34-941B-6E52F6D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857C16-2DFD-43BA-81F4-794C9485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78323-2F18-4742-9EE2-5E8309B4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7379D-6895-47FE-8B41-E82AE6E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3F286-D86B-484E-BB2E-D2BC90C4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CE0B0-D947-4D30-916E-4DFD61F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C023C-FC39-4C13-A6A8-91F4E870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EED4C-4A87-42B1-AA69-7C08837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1F13-2E66-4426-81F2-C26725BC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A50B4-7359-430A-9151-CFC9C57E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E2D03-70CC-4095-AF79-F1E21344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12F98-DFC8-4E0A-97D0-18D08B44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8B6CE-4E83-4B9D-BEE3-CA58904B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8F9E8-7247-4BFB-8946-1FD7A491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AD03D-DC2A-45BA-AAD8-B959E9EC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033FB-2E27-4E3B-A866-20C4B348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30E32-DC7A-4344-AB77-3D924DB5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300B5-B79E-41A1-B9C2-DB45E92A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D8A40-CE4A-4619-9D11-3AEB59F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D3F-C1F2-4D0D-8D69-8B13DAC9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5C5E-E828-4487-BC0D-C11885D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94874-3D58-4538-A728-4EADB0A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559AA-C4C4-4A8E-A025-1BED1DA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153B7-F87C-4F2F-B69C-08DD6579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1A3CE-074A-4A5A-A6BA-4D268636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E7751-1811-4ADC-B5DF-2B34A1F2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F65E07-B618-4A5E-A47E-27FEA163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B4808-4DD8-4971-8DC2-B5723A2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85387-C22C-42A7-AD2A-52337CE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87293-E623-4144-A985-95E99867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4C72F-D885-4DC6-A80E-BA631041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E978-F040-47C6-AD61-48D72FE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1DE4B-2F16-479F-8C44-672C92F4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B15F7-2121-442D-BDB5-83EF273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68DAA-C8D8-42E2-93DC-EB6EA633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FD1CC0-DA65-4895-9477-DA30B6C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68C83-8DE7-46A5-9D6D-948A1735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848BA-084E-403E-AFD7-280C6AB2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B18A0-CEE1-4D05-9F7E-46B83407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0B375-6AF4-48EB-AA07-71C7213B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E4201-CE4D-4351-BF08-D79B5934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F01DD-320F-4FCA-9FDD-783C9F8E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E7CC-B38E-418A-89EE-2A715575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51274-8B62-4B91-88BF-729CE4CE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058FB-F312-47E5-AA79-88A7B6D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FF155-AADD-4D83-A162-839E0ACE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79608-D68E-43E0-9548-8A0DE9A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7516A-0132-46B8-9782-22F5922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9B445-9F57-48B5-9D7C-7FA0E19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E61E4-CAF1-4EBE-A4AE-CDE609F0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D62CE-E9A9-4BEA-8E32-5A64D09C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E4805-031E-468A-B6EA-A74BCA43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503B2-AD4E-4B12-9411-4D48294F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FAF5-6B6A-4D2A-8172-2E8FFC23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245EB-430A-40EB-9D07-BCD496E5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39250-3D3D-448D-B041-2AF85D9A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B6246-36AF-4773-9207-F1F89835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14EB9-7097-43A5-98CB-53AC886A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68C6B-3019-4F09-B1A2-6350F644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BAFAA-A1F5-43EA-A8AA-E4CEA6E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39F48-8637-49F0-98F9-E465F69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1971A-12B0-4FE8-B123-9329C33B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F3202-7D37-48E0-9589-8AC6A776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B4A18-293E-46BB-8125-77133A65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D353-9912-40D1-9B4C-B357F9F2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EE9141-C783-4977-A11F-63D8CE47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926CD-E687-4E8C-A036-F496924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CFF84-0C58-48F0-897D-CFCA39C6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D34C6-928B-4F9C-B828-4B55EFB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6AAFC-970D-407A-9CC1-7464DBAF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ADD6F-14CB-4666-8C78-8A89D883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977B8-B3BF-42BF-8458-F9C2091F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3BE6E-E11C-4E88-B4D4-7D63040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81B49-E4AB-4F89-801F-D76E7286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3F2760-76D8-4D39-B8EA-4FB6CD3B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26E0-CF02-4AAF-BD8A-DEB80870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B9836-39B3-4132-AEBF-DCA61A2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D42A7-802B-4F64-9AAF-765BC157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7F481-CFFA-40D4-9537-6DA60517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08E4-3CA8-4628-ADB7-97EE91CE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0F07-51B0-4E21-8745-0261FF6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B2D6-A19C-4082-9838-EF119BB3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91D7-C795-4A3E-BA69-42B6951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1E8-05F7-4A5E-AB02-14EE818B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4BCA-4B09-472E-BA0A-73A825CA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F00E-DD85-4803-BBCD-79DC6A7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9113-7328-4C7A-8DFF-D4EEA208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B678-5E68-453C-94BF-2A3F032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C874-8A24-40EA-A112-3BBDD6FF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4595-5F5F-4DCA-80D8-1D4AB884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5283-5447-4FA0-99A6-CC8AB7B4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17DA-43E6-4476-96C9-C3A8E523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795C-11AD-4798-A393-A261DF95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7CEF-C48A-446E-AE99-519B53BA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4F6-E5EB-4D19-8281-48A010F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6695-87E3-4F1C-B773-EC1ABDD2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8BFE-5C13-42BB-8A1E-E699575E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4666-6710-41B4-A9FB-1395AC70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F17C-DB0B-4703-81C2-91ED31C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5FDE-0A10-4E96-A492-EA39B2B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C1A4-F00E-4BC6-94D3-3F28940F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6917-DF57-4C6A-AEB0-04BF2B8E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6C69-44DE-4BB7-8FB4-552CCE86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66C3-8F55-4883-83F7-840C5F0E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97AC-A000-4360-AD53-FA2B1150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315-9F28-4FB6-9CC4-B0E5222B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A8B50-9157-4521-AEF0-399A869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19697-D65B-4718-B231-E108A423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FDC1F-EE76-429A-A486-BBA38565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EF41-F167-490E-B160-5CDDEF94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A1D4-6370-4DCB-B5ED-E3BA28D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02BB-831B-4647-B30A-B01949C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FFD9-8C6B-451C-852D-B58115D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1CBB-27E2-4834-BDAB-E4F12A3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A459B-AA14-4190-B46E-CDA87266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D8B64-65D7-48D2-A745-3B7C3AD7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978-9191-4F80-B88C-DAF70B13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41D31-66FC-4C11-B67D-16EE59DA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99549-5457-4A3A-8048-7757367F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F9E8C-4F45-462A-A65A-FD34009A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3C52-ED34-4B70-B0F8-B9AA1343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DCAB7-786E-455E-81B2-1CA219FE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07A6-53B5-4341-BD8E-2FA7494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E98C-139B-4004-B6FD-0077F018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4E7C-9C1B-46FC-B2A6-33A513A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F544-F64F-4A00-B2C6-19807484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0B99B-2A47-454F-B4C3-0A4900E7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1F0-A310-42FD-946E-29027F6C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ABB4-CA1B-4656-8F5F-D1B7D04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AC05-B654-447A-AFAB-CEAF9593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C415-1932-4771-89F3-3D4F78BB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F6A51-F5A7-47E3-A96B-65A84B52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640C3-CCFF-4286-B867-348A5184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42B6-003C-472C-B806-0D4378E5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05924-18CB-42BE-8ABB-40D90DF9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D6A92-4A03-490D-A7A1-DCE9F529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5743-ABFA-49F8-963F-A35312FF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0DDD-8360-40D7-A3C7-BECC621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BD8-1C7A-4E3E-8BF7-92185FDE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77CE2-E706-41E3-ACA5-719D3C69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85509-ACD3-4600-867D-BCD908A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B1266-733B-4ED2-A68B-7E9F24A8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8C9C-2132-43BE-86D3-E613D6EA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F1929-301F-46F1-9A54-F99A8AEF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94D70-7A09-4956-B131-244D4DD9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0593-938C-481D-9B9D-336E3C04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DBF5-D433-4280-A5FE-7F619CE3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8BACC-D228-4F42-8399-804D494C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7F75C-A74F-4838-9EA6-FCF8645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597-9795-444F-9C79-9B1CE898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1707E-0CD3-4851-8DDE-3CB521F3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F165C-3488-4374-808D-C2FCF182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B68E1-6E3B-474E-9860-E2E9A61E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47F1D-4FFA-4747-A50E-5F7175FD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4B1E1-1AE1-4C37-A52D-E0C45E09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59D6-9DBC-4131-A648-D08953D1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49823-57DD-4787-AD00-E1A7B9A8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0389-4DC2-4AF9-B9E4-14DAB9E4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F57C5-C591-4DBD-8F48-A727EBCF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3A166-41BF-48B7-AA15-751C265C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218E-2E92-4427-9B5E-B7DF4F909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DE63-78A0-48D7-8CB9-D75449928D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6DB4-EAC2-433D-BC38-0C0C5B75C2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0F9-D8C3-4A2B-A50A-452E80B37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1584-E2E7-46DD-B1BE-058CD3142E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526-A23D-4D60-81F3-CE8C1FA56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89A9-AA53-4549-814E-AC4698E55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3827-183E-4FE8-AE43-8A138C2D24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3036-EE04-4D27-BB4A-FEF56A1EB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85CC-9B5C-457A-876C-9F249A5A0F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D449-D339-40B2-A0D9-43F3335E44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93FA-F87C-42BB-BD95-E3C53C1B85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597-66C8-468C-A57D-32C034E70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84E0-7B74-4D84-8B3B-93810D3EB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686C-F1D1-4C63-9155-7F9CD55C2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DE19-43F2-49A0-B6E5-C764B8D2F4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E3F3-72F7-4FF3-A893-64353A0E99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22C8-6A18-419A-B9CC-9B2FE409B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244D-01BC-4CCC-9D08-5246F792A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3064-C68A-4A55-B871-084BE7AB0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F7D3-4A79-4476-AE26-601D69BDAD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3B29-D131-474D-ACA6-2A0D35C83E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D728-538F-4A92-9BF8-62EA1E17F9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56E-8E84-4B63-8702-49353EB1A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01A5-E34C-498E-9790-9F7EAA057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3FDC-05AF-4B7D-9B31-D888959FFB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CA0C-A9DB-4462-AB27-9CE14EDC59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61A0-EB31-4CB2-9A0E-81747939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E325-0CEE-4D0E-A1B3-2063581668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7819-ED3A-46AA-9133-C3D55249C8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DA56-66EE-499A-AF4B-258FB15357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3FBB-0D6C-4157-881A-A8093CDA7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FE7-B9D1-4666-862D-E005B7EE7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D9F8-2659-47B8-939B-52D085ACAD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35B7-80A6-4E04-BC00-A12F1DB8E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DFC7-5B50-4CAD-9E2C-AE0E332B2E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1162-D4E5-46A7-B1E3-8E3C8A80E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89A3-D264-4927-A54D-1D8389C028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1F0C-6A5F-4350-A857-A1585D5DF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75E6-2E84-4017-8D5E-EB065FA51D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3078" descr=""/>
          <p:cNvPicPr/>
          <p:nvPr/>
        </p:nvPicPr>
        <p:blipFill>
          <a:blip r:embed="rId1"/>
          <a:stretch/>
        </p:blipFill>
        <p:spPr>
          <a:xfrm>
            <a:off x="2448000" y="2986200"/>
            <a:ext cx="42480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4513" descr=""/>
          <p:cNvPicPr/>
          <p:nvPr/>
        </p:nvPicPr>
        <p:blipFill>
          <a:blip r:embed="rId1"/>
          <a:stretch/>
        </p:blipFill>
        <p:spPr>
          <a:xfrm>
            <a:off x="404640" y="920880"/>
            <a:ext cx="7734600" cy="52387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64514"/>
          <p:cNvSpPr/>
          <p:nvPr/>
        </p:nvSpPr>
        <p:spPr>
          <a:xfrm>
            <a:off x="6064200" y="20811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63489" descr=""/>
          <p:cNvPicPr/>
          <p:nvPr/>
        </p:nvPicPr>
        <p:blipFill>
          <a:blip r:embed="rId1"/>
          <a:stretch/>
        </p:blipFill>
        <p:spPr>
          <a:xfrm>
            <a:off x="515880" y="1157400"/>
            <a:ext cx="7943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62465" descr=""/>
          <p:cNvPicPr/>
          <p:nvPr/>
        </p:nvPicPr>
        <p:blipFill>
          <a:blip r:embed="rId1"/>
          <a:stretch/>
        </p:blipFill>
        <p:spPr>
          <a:xfrm>
            <a:off x="208080" y="915840"/>
            <a:ext cx="8010360" cy="3915000"/>
          </a:xfrm>
          <a:prstGeom prst="rect">
            <a:avLst/>
          </a:prstGeom>
          <a:ln w="0">
            <a:noFill/>
          </a:ln>
        </p:spPr>
      </p:pic>
      <p:sp>
        <p:nvSpPr>
          <p:cNvPr id="1027" name="矩形 62466"/>
          <p:cNvSpPr/>
          <p:nvPr/>
        </p:nvSpPr>
        <p:spPr>
          <a:xfrm>
            <a:off x="5919840" y="91584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61441" descr=""/>
          <p:cNvPicPr/>
          <p:nvPr/>
        </p:nvPicPr>
        <p:blipFill>
          <a:blip r:embed="rId1"/>
          <a:stretch/>
        </p:blipFill>
        <p:spPr>
          <a:xfrm>
            <a:off x="295200" y="944640"/>
            <a:ext cx="8058240" cy="3429000"/>
          </a:xfrm>
          <a:prstGeom prst="rect">
            <a:avLst/>
          </a:prstGeom>
          <a:ln w="0">
            <a:noFill/>
          </a:ln>
        </p:spPr>
      </p:pic>
      <p:sp>
        <p:nvSpPr>
          <p:cNvPr id="1029" name="矩形 61442"/>
          <p:cNvSpPr/>
          <p:nvPr/>
        </p:nvSpPr>
        <p:spPr>
          <a:xfrm>
            <a:off x="6323040" y="97488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60417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725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9393" descr=""/>
          <p:cNvPicPr/>
          <p:nvPr/>
        </p:nvPicPr>
        <p:blipFill>
          <a:blip r:embed="rId1"/>
          <a:stretch/>
        </p:blipFill>
        <p:spPr>
          <a:xfrm>
            <a:off x="434880" y="952560"/>
            <a:ext cx="8067600" cy="5210280"/>
          </a:xfrm>
          <a:prstGeom prst="rect">
            <a:avLst/>
          </a:prstGeom>
          <a:ln w="0">
            <a:noFill/>
          </a:ln>
        </p:spPr>
      </p:pic>
      <p:sp>
        <p:nvSpPr>
          <p:cNvPr id="1032" name="矩形 59394"/>
          <p:cNvSpPr/>
          <p:nvPr/>
        </p:nvSpPr>
        <p:spPr>
          <a:xfrm>
            <a:off x="1946160" y="15699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69" descr=""/>
          <p:cNvPicPr/>
          <p:nvPr/>
        </p:nvPicPr>
        <p:blipFill>
          <a:blip r:embed="rId1"/>
          <a:stretch/>
        </p:blipFill>
        <p:spPr>
          <a:xfrm>
            <a:off x="673200" y="1020600"/>
            <a:ext cx="77626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4T08:18:41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